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73E-71B9-45A8-B6CE-97D2497F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8FE-B90A-4230-B13E-A5EAED09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1C4-05E5-4B8C-8F76-CFF3F1DE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B3A-FECC-4755-84E6-F7E1122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490-BE9F-4168-8C80-6F921D8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03F-1870-4CD1-9BC2-7E3F61D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F1D-4F2F-4220-856D-F47E6D9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7B0-88A7-4E5F-9EC2-F377343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AFB-F9E2-46A1-A904-9E493C2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DAB-04B5-4F05-A3E6-BF39321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CC1-6358-46E0-ABAE-FA5B1FD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736-02CE-4CE0-81F5-584BC64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2A0-831F-4824-9303-6C576D6C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-963720"/>
            <a:ext cx="7921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nit 1 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ere did you go on vacation?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979640" y="2181240"/>
            <a:ext cx="604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ction B 2 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a-Self check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286000" y="2890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2286000" y="2890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5737680" y="5013360"/>
            <a:ext cx="2977200" cy="155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 W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&amp; Class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50920" y="1400040"/>
            <a:ext cx="8642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为写日记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此应用一般过去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应注意动词的过去式形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顾一下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所回答的问题的情况，然后将这些句子按恰当的逻辑顺序排列在一起，形成条理清晰的一段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根据旅行经历再加一些恰当想像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次，阅读一遍短文，看有没有错误的句子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771640" y="476280"/>
            <a:ext cx="345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作指导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08000" y="880920"/>
            <a:ext cx="8856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dnesday, July 24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71280" y="189000"/>
            <a:ext cx="4897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ne possible ver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8000" y="1455840"/>
            <a:ext cx="896472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I went to the beach on vacation with my parents. It was sunny and hot. We went swimming in the sea every day. We usually ate sea food. I liked the paragliding best. It was exciting. But I didn’t like the bus ride. It’s boring. I think the trip was exciting but tire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1280" y="54165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Now, it’s your turn. Try your best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77840" y="652320"/>
            <a:ext cx="3025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Self chec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1280" y="3645000"/>
            <a:ext cx="76676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: Did ______ go on vacation with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last mon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my family went to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ntryside with 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276720" y="260280"/>
            <a:ext cx="5688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1. Complete the conversations with the correct words in the box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971640" y="2205000"/>
            <a:ext cx="7054920" cy="1441440"/>
          </a:xfrm>
          <a:prstGeom prst="rect">
            <a:avLst/>
          </a:prstGeom>
          <a:solidFill>
            <a:srgbClr val="ffff99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, everything, nothing, anyone, everyone, 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484360" y="37242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287280" y="1677960"/>
            <a:ext cx="8388360" cy="47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: Did your family go to the beach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last week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No. _______ from my family wen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my friend went with m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A: I didn’t bring back anything fr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lays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________ at all? Why no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173320" y="311616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03280" y="57103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971640" y="189000"/>
            <a:ext cx="7054920" cy="1441440"/>
          </a:xfrm>
          <a:prstGeom prst="rect">
            <a:avLst/>
          </a:prstGeom>
          <a:solidFill>
            <a:srgbClr val="ffff99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, everything, nothing, anyone, everyone, 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24000" y="1677960"/>
            <a:ext cx="8496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A: Did you buy ________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pping cen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No, I didn’t. ___________ was 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ns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A: How was the volleyball ga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ter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Great! _________ had a fun time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22560" y="17510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922560" y="30463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771640" y="57103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900000" y="115920"/>
            <a:ext cx="7054920" cy="1441440"/>
          </a:xfrm>
          <a:prstGeom prst="rect">
            <a:avLst/>
          </a:prstGeom>
          <a:solidFill>
            <a:srgbClr val="ffff99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, everything, nothing, anyone, everyone, no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2"/>
          <p:cNvSpPr/>
          <p:nvPr/>
        </p:nvSpPr>
        <p:spPr>
          <a:xfrm>
            <a:off x="611280" y="549360"/>
            <a:ext cx="784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2. Complete the passage with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orrect forms of the verb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bracke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50920" y="2563920"/>
            <a:ext cx="8642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导：通读全文可知，本文记叙了去年八月份作者全班去泰山旅行的事情。可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本文应为一般过去时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因此应用括号中单词的一般过去时态。因此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应明确该动词是规则变化还是不规则变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95280" y="476280"/>
            <a:ext cx="842472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st August, our class ___ (do) something very special on our school trip. We _____ (go) to Mount Tai. We ______ (start) our trip at 12:00 at night. Everyone in our class ____ (take) a bag with some food and water. After three hours, someone looked at the map and _____ (find) out we _______ (be, not) anywhere near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859280" y="666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236000" y="1387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859280" y="20415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76360" y="3475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824360" y="4923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5641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289080" y="404640"/>
            <a:ext cx="86756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legs ____ (be) so tired that I wanted to stop. My classmates ____ (tell) me to keep going, so I _____ (go) on. At 5:00 a.m., we got to the top! Everyone _______ (jump) up and down in excitement. Twenty minutes later, the sun _______ (start) to come up. It was so beautiful that we ______ (forget) about the last five hou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6560" y="555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356000" y="126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411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148360" y="2714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m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3440" y="415620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380360" y="4875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g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865080"/>
            <a:ext cx="417672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Groupwork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68360" y="2133720"/>
            <a:ext cx="831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Imagine you are all foreigners on vacation in China. You meet each other at the airport on your way home. Talk about what you did on your va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826920" y="24940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Paul, Nanj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148360" y="249228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nna, Beij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84360" y="5164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lice, Hangzh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29272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ob, Haik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5" descr="Q{UEBD$X_9Y[7E]~7~C4WHW"/>
          <p:cNvPicPr/>
          <p:nvPr/>
        </p:nvPicPr>
        <p:blipFill>
          <a:blip r:embed="rId2"/>
          <a:srcRect l="0" t="8471" r="0" b="0"/>
          <a:stretch/>
        </p:blipFill>
        <p:spPr>
          <a:xfrm>
            <a:off x="5724360" y="3500280"/>
            <a:ext cx="1729080" cy="1541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ZSZ32C]M082YM%)_]GYS7E1"/>
          <p:cNvPicPr/>
          <p:nvPr/>
        </p:nvPicPr>
        <p:blipFill>
          <a:blip r:embed="rId3"/>
          <a:srcRect l="4976" t="0" r="0" b="0"/>
          <a:stretch/>
        </p:blipFill>
        <p:spPr>
          <a:xfrm>
            <a:off x="1619280" y="1052640"/>
            <a:ext cx="1368360" cy="136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Y]0G8DZR_NZ232C5BZYX5YW"/>
          <p:cNvPicPr/>
          <p:nvPr/>
        </p:nvPicPr>
        <p:blipFill>
          <a:blip r:embed="rId4"/>
          <a:srcRect l="0" t="5328" r="6102" b="0"/>
          <a:stretch/>
        </p:blipFill>
        <p:spPr>
          <a:xfrm>
            <a:off x="5867280" y="1125360"/>
            <a:ext cx="1368720" cy="129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S24{G[USS`OGTPN6S0R`]Z3"/>
          <p:cNvPicPr/>
          <p:nvPr/>
        </p:nvPicPr>
        <p:blipFill>
          <a:blip r:embed="rId5"/>
          <a:srcRect l="0" t="10301" r="0" b="0"/>
          <a:stretch/>
        </p:blipFill>
        <p:spPr>
          <a:xfrm>
            <a:off x="1403280" y="3573360"/>
            <a:ext cx="1728720" cy="136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24000" y="62064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Review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1666800"/>
            <a:ext cx="82803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July 15th, Jane and her family got to Penang in _________. The weather was ______ and ____. So they decided to go to the _____. She and her sister tried __________. It was so _______. She felt like she was a ____. They had Malaysian yellow ______ for lunch. They were delicious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914560" y="333360"/>
            <a:ext cx="5761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passage and fill in the bl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39640" y="2954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664000" y="2306520"/>
            <a:ext cx="23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ay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87280" y="35305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4106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gli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859280" y="41781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203640" y="47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763640" y="53308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od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2962080" y="2960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Y]0G8DZR_NZ232C5BZYX5YW"/>
          <p:cNvPicPr/>
          <p:nvPr/>
        </p:nvPicPr>
        <p:blipFill>
          <a:blip r:embed="rId2"/>
          <a:stretch/>
        </p:blipFill>
        <p:spPr>
          <a:xfrm>
            <a:off x="5076720" y="2924280"/>
            <a:ext cx="145728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ZSZ32C]M082YM%)_]GYS7E1"/>
          <p:cNvPicPr/>
          <p:nvPr/>
        </p:nvPicPr>
        <p:blipFill>
          <a:blip r:embed="rId3"/>
          <a:stretch/>
        </p:blipFill>
        <p:spPr>
          <a:xfrm>
            <a:off x="2195640" y="2278080"/>
            <a:ext cx="1439640" cy="1366920"/>
          </a:xfrm>
          <a:prstGeom prst="rect">
            <a:avLst/>
          </a:prstGeom>
          <a:ln w="0">
            <a:noFill/>
          </a:ln>
        </p:spPr>
      </p:pic>
      <p:sp>
        <p:nvSpPr>
          <p:cNvPr id="146" name="圆角矩形标注 4"/>
          <p:cNvSpPr/>
          <p:nvPr/>
        </p:nvSpPr>
        <p:spPr>
          <a:xfrm>
            <a:off x="108000" y="981000"/>
            <a:ext cx="3924360" cy="1224000"/>
          </a:xfrm>
          <a:prstGeom prst="wedgeRoundRectCallout">
            <a:avLst>
              <a:gd name="adj1" fmla="val -10597"/>
              <a:gd name="adj2" fmla="val 8009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my name’s Paul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圆角矩形标注 5"/>
          <p:cNvSpPr/>
          <p:nvPr/>
        </p:nvSpPr>
        <p:spPr>
          <a:xfrm>
            <a:off x="4284720" y="291960"/>
            <a:ext cx="4319640" cy="2129040"/>
          </a:xfrm>
          <a:prstGeom prst="wedgeRoundRectCallout">
            <a:avLst>
              <a:gd name="adj1" fmla="val 495"/>
              <a:gd name="adj2" fmla="val 83037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Paul. I’m Anna. Where did you go on vacatio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圆角矩形标注 6"/>
          <p:cNvSpPr/>
          <p:nvPr/>
        </p:nvSpPr>
        <p:spPr>
          <a:xfrm>
            <a:off x="216000" y="3573360"/>
            <a:ext cx="2411280" cy="1079640"/>
          </a:xfrm>
          <a:prstGeom prst="wedgeRoundRectCallout">
            <a:avLst>
              <a:gd name="adj1" fmla="val 65143"/>
              <a:gd name="adj2" fmla="val -47500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ent to Nanj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圆角矩形标注 7"/>
          <p:cNvSpPr/>
          <p:nvPr/>
        </p:nvSpPr>
        <p:spPr>
          <a:xfrm>
            <a:off x="3213000" y="4510080"/>
            <a:ext cx="5680080" cy="1943280"/>
          </a:xfrm>
          <a:prstGeom prst="wedgeRoundRectCallout">
            <a:avLst>
              <a:gd name="adj1" fmla="val 7768"/>
              <a:gd name="adj2" fmla="val -6078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I went to Beijing. Did you do anything special in Nanjing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圆角矩形标注 8"/>
          <p:cNvSpPr/>
          <p:nvPr/>
        </p:nvSpPr>
        <p:spPr>
          <a:xfrm>
            <a:off x="287280" y="4916520"/>
            <a:ext cx="2772000" cy="1104840"/>
          </a:xfrm>
          <a:prstGeom prst="wedgeRoundRectCallout">
            <a:avLst>
              <a:gd name="adj1" fmla="val 24569"/>
              <a:gd name="adj2" fmla="val -6939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, I 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Q{UEBD$X_9Y[7E]~7~C4WHW"/>
          <p:cNvPicPr/>
          <p:nvPr/>
        </p:nvPicPr>
        <p:blipFill>
          <a:blip r:embed="rId2"/>
          <a:stretch/>
        </p:blipFill>
        <p:spPr>
          <a:xfrm>
            <a:off x="5003640" y="2565360"/>
            <a:ext cx="1729080" cy="168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24{G[USS`OGTPN6S0R`]Z3"/>
          <p:cNvPicPr/>
          <p:nvPr/>
        </p:nvPicPr>
        <p:blipFill>
          <a:blip r:embed="rId3"/>
          <a:stretch/>
        </p:blipFill>
        <p:spPr>
          <a:xfrm>
            <a:off x="2556000" y="2492280"/>
            <a:ext cx="1728720" cy="1525680"/>
          </a:xfrm>
          <a:prstGeom prst="rect">
            <a:avLst/>
          </a:prstGeom>
          <a:ln w="0">
            <a:noFill/>
          </a:ln>
        </p:spPr>
      </p:pic>
      <p:sp>
        <p:nvSpPr>
          <p:cNvPr id="153" name="圆角矩形标注 1"/>
          <p:cNvSpPr/>
          <p:nvPr/>
        </p:nvSpPr>
        <p:spPr>
          <a:xfrm>
            <a:off x="358920" y="1125360"/>
            <a:ext cx="3276360" cy="1079640"/>
          </a:xfrm>
          <a:prstGeom prst="wedgeRoundRectCallout">
            <a:avLst>
              <a:gd name="adj1" fmla="val 24652"/>
              <a:gd name="adj2" fmla="val 80893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i, my name’s Alice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圆角矩形标注 2"/>
          <p:cNvSpPr/>
          <p:nvPr/>
        </p:nvSpPr>
        <p:spPr>
          <a:xfrm>
            <a:off x="4024440" y="601560"/>
            <a:ext cx="4435200" cy="1963800"/>
          </a:xfrm>
          <a:prstGeom prst="wedgeRoundRectCallout">
            <a:avLst>
              <a:gd name="adj1" fmla="val 4046"/>
              <a:gd name="adj2" fmla="val 74736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i, Alice. I’m Bob. Where did you go on vacatio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圆角矩形标注 3"/>
          <p:cNvSpPr/>
          <p:nvPr/>
        </p:nvSpPr>
        <p:spPr>
          <a:xfrm>
            <a:off x="142920" y="3081240"/>
            <a:ext cx="2268360" cy="1571760"/>
          </a:xfrm>
          <a:prstGeom prst="wedgeRoundRectCallout">
            <a:avLst>
              <a:gd name="adj1" fmla="val 60652"/>
              <a:gd name="adj2" fmla="val -2496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 went to Hangzhou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圆角矩形标注 4"/>
          <p:cNvSpPr/>
          <p:nvPr/>
        </p:nvSpPr>
        <p:spPr>
          <a:xfrm>
            <a:off x="3492360" y="4437000"/>
            <a:ext cx="4608720" cy="1944720"/>
          </a:xfrm>
          <a:prstGeom prst="wedgeRoundRectCallout">
            <a:avLst>
              <a:gd name="adj1" fmla="val -7287"/>
              <a:gd name="adj2" fmla="val -6959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h, I went to Hainan. Did you do anything special in Hangzhou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圆角矩形标注 5"/>
          <p:cNvSpPr/>
          <p:nvPr/>
        </p:nvSpPr>
        <p:spPr>
          <a:xfrm>
            <a:off x="287280" y="5013360"/>
            <a:ext cx="2340000" cy="1046160"/>
          </a:xfrm>
          <a:prstGeom prst="wedgeRoundRectCallout">
            <a:avLst>
              <a:gd name="adj1" fmla="val 55222"/>
              <a:gd name="adj2" fmla="val -9734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Well, I 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3132000" y="189000"/>
            <a:ext cx="295128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Exercise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611280" y="1820880"/>
            <a:ext cx="8208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______ (buy) a new dictionary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 before yester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— What day ____ (be) it yester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____ (be) Fri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y _____ (be) here half an hour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e often ______ (play) games l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76360" y="1152360"/>
            <a:ext cx="665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用括号中单词的正确形式填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03280" y="19638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708360" y="32608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52720" y="39085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95640" y="46292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60720" y="521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468360" y="620640"/>
            <a:ext cx="8424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She _____ (give) me a book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ment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The girl _____ (get) up very early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They _____ (take) photos near the river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hour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He 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 watch) TV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terday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83672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71640" y="19954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12400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19280" y="46594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n’t w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47640" y="981000"/>
            <a:ext cx="7956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____ bicycles to Georgetown in the afternoon. They saw many old and new _________ there. Weld Quay is a very ___ place. They saw the houses of the Chinese _______ from 100 years. They really enjoyed _______ _______ the t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19280" y="2276640"/>
            <a:ext cx="2158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il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19280" y="2924280"/>
            <a:ext cx="122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060720" y="3573360"/>
            <a:ext cx="16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643280" y="4221000"/>
            <a:ext cx="352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lking  arou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92360" y="10587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770200" y="260280"/>
            <a:ext cx="3457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iting</a:t>
            </a:r>
            <a:endParaRPr b="1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187280" y="1268280"/>
            <a:ext cx="777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omplete the diary entry about a trip to one of these places. Use the words and phrases in the box to help you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"/>
          <p:cNvSpPr/>
          <p:nvPr/>
        </p:nvSpPr>
        <p:spPr>
          <a:xfrm>
            <a:off x="250920" y="1413000"/>
            <a:ext cx="89856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3" descr="CIMG5462"/>
          <p:cNvPicPr/>
          <p:nvPr/>
        </p:nvPicPr>
        <p:blipFill>
          <a:blip r:embed="rId2"/>
          <a:stretch/>
        </p:blipFill>
        <p:spPr>
          <a:xfrm>
            <a:off x="108000" y="3933720"/>
            <a:ext cx="8820000" cy="1908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144360" y="2762280"/>
            <a:ext cx="8820360" cy="41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_______ 20</a:t>
            </a:r>
            <a:r>
              <a:rPr b="1" lang="en-US" sz="3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 weather was ____________. I went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_____________. It was _________. W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. I liked this place becaus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. For dinner we had ______ ____. It was _______. In the evening, I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t really ____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539640" y="0"/>
            <a:ext cx="8101080" cy="2808360"/>
          </a:xfrm>
          <a:prstGeom prst="rect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t and sunny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duck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li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 some photos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y something special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arn something important       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572000" y="3376440"/>
            <a:ext cx="316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t and su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84720" y="2781360"/>
            <a:ext cx="165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9640" y="3914640"/>
            <a:ext cx="3203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eijing hut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859280" y="3914640"/>
            <a:ext cx="216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4360" y="4529160"/>
            <a:ext cx="399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k some ph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8000" y="5084640"/>
            <a:ext cx="5616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learned something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5661000"/>
            <a:ext cx="165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ij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340000" y="5661000"/>
            <a:ext cx="118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716360" y="5661000"/>
            <a:ext cx="215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li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995640" y="6229440"/>
            <a:ext cx="129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468360" y="1916280"/>
            <a:ext cx="8136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______ 20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 weather was ___________. I went to ____________. It was ________. We _____________. I liked this place because ____________. For dinner we had _________. It was ________. In the evening, 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t really 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95280" y="189000"/>
            <a:ext cx="8280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It’s your turn now. What other places do you like to go? Please write them down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71280" y="216000"/>
            <a:ext cx="2124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Practice</a:t>
            </a:r>
            <a:endParaRPr b="1" lang="en-US" sz="4000" spc="1" strike="noStrike">
              <a:ln w="19080">
                <a:solidFill>
                  <a:srgbClr val="3399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63640" y="1738440"/>
            <a:ext cx="7307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ere did you g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Did you go with anyon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ow was the weather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id you do 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403280" y="24271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ent to the b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205080" y="115920"/>
            <a:ext cx="5688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Answer the questions to make notes about a vacation you took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"/>
          <p:cNvSpPr/>
          <p:nvPr/>
        </p:nvSpPr>
        <p:spPr>
          <a:xfrm>
            <a:off x="2306520" y="260280"/>
            <a:ext cx="825480" cy="84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403280" y="3573360"/>
            <a:ext cx="67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. I went with my par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403280" y="47973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was sunny and ho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463760" y="6021360"/>
            <a:ext cx="70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went swimming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31640" y="620640"/>
            <a:ext cx="8172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food did you ea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What did you like bes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Did you dislike anything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How did you feel about the tr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96760" y="1341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ate sea f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98560" y="27082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liked the paragliding be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98560" y="4005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. I didn’t like the bus r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98560" y="530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was interesting but tir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539640" y="2198520"/>
            <a:ext cx="82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63640" y="83664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Write a travel diary like Jane’s on Page 5. Use your notes in 3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2"/>
          <p:cNvSpPr/>
          <p:nvPr/>
        </p:nvSpPr>
        <p:spPr>
          <a:xfrm>
            <a:off x="649440" y="1287360"/>
            <a:ext cx="826920" cy="84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 rot="20858400">
            <a:off x="250560" y="40464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iting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2:35:29Z</dcterms:created>
  <dc:creator/>
  <dc:description/>
  <dc:language>en-US</dc:language>
  <cp:lastModifiedBy>SDWM</cp:lastModifiedBy>
  <dcterms:modified xsi:type="dcterms:W3CDTF">2018-07-28T01:21:09Z</dcterms:modified>
  <cp:revision>132</cp:revision>
  <dc:subject/>
  <dc:title>幻灯片 1</dc:title>
</cp:coreProperties>
</file>